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961-577D-4945-B550-A5B4271F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0B0-575F-4FDD-B1E1-79B54C0A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3D6-E049-4EB2-9BA0-03A409E8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67B-89BE-4BA2-AA2A-AD7EDE7F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E54-8501-4715-86BF-ED239140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8D1-149A-44D7-B502-FA559CB7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F56-B3BB-4668-9FAC-DAADE032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CC1-74BE-47F0-95BA-CB2B5190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E32-F851-4221-B30E-54BD073C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957-B387-484F-80AD-11868195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89E-AFF0-4B43-996A-B241CDCF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A49-3A2A-4C7F-9825-D369DA2F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8ADA-3131-4B5B-9748-168D433C0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ted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in 1945 by 51 countries committed to preserving peace through international cooperation and collective secur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, nearly every nation in the world belongs to the UN: membership totals 191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countries agree to uphold the UN Char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intain international peace and securit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friendly relations among nation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operate in solving international problems and in promoting respect for human righ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o be a centre for harmonizing the actions of n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Nations has six main organs. Five are based in the US in New York C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Assembl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urity Counc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conomic and Social Counc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usteeship Council and the Secretari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xth, the International Court of Justice, is located at The Hague in the Nether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Nations is not a world government and it does not make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vides the means to help resolve international conflicts and formulate policies on matters affecting all of 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Member States — large and small, rich and poor, with differing political views and social systems — have a voice and a vote in this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ted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respect for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e environ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h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andards for safe and efficient air tra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improve tele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consumer prot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he international campaigns against drug trafficking and terro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agenc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refug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programmes to clear land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expand food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the fight against AID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illennium Development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 Millennium Development Goals (MDGs) –– form a blueprint agreed to by all the world’s countries and all the world’s leading development i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date of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. Eradicate extreme poverty and hu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2. Achieve universal primary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3. Promote gender equality and empower w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4. Reduce child morta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5 Improve matern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6. Combat HIV/AIDS, malaria and other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7. Ensure environmental sustain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8. Develop a global partnership for 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3:48:58Z</dcterms:created>
  <dc:creator>admin</dc:creator>
  <dc:description/>
  <dc:language>en-US</dc:language>
  <cp:lastModifiedBy>DT06</cp:lastModifiedBy>
  <dcterms:modified xsi:type="dcterms:W3CDTF">2010-05-06T15:17:47Z</dcterms:modified>
  <cp:revision>9</cp:revision>
  <dc:subject/>
  <dc:title>The United Nations</dc:title>
</cp:coreProperties>
</file>